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BA5B-6E03-4E1C-9787-FB8AC375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F1FB-82EF-440F-9D63-23DF4882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8119-14C0-498C-9D46-9293E03F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23FB-DE7E-454D-A8D7-C5073A1B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D721-DD0C-429A-8518-76891118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45E2-94FA-420F-9A11-2E2C5728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19FD-ACA3-4608-9A43-3AA67D5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ADFB-4BA6-4D8C-90A1-A513AACC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BE10-710D-4256-963D-39797C6F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4601-BA81-40A9-AAB6-19989366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03D3-D5A3-4326-B76A-2C9300DC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641D-2DF0-4542-A2E8-7821E27F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341D-B6E9-4D85-A5D8-83C61A6C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38B4-4A41-4A87-B70F-1EA61141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4723-7917-428B-B93C-38E9153F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38A8-237C-4E22-9FE2-80B49AFC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FB0D-A1C9-4950-8530-EBADF90C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A076-6CFF-41D0-A6EC-A3EA8921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EA61-36F2-4310-98E9-14832BA1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2AEC-C8C1-4198-95A8-D3435817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AC72-2D41-4594-936A-FFC3E57D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D9F3-C543-4ABE-B279-722BD673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BFC8-C432-44AF-A37D-DF5F817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5EF0-7580-4F97-8A80-3EC7B8BC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93A8-1E74-4AC8-9379-295776EF14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B54-5C79-461C-8E31-9DFE3C533A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9636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АНТОН ПАВЛОВИЧ ЧЕХОВ</a:t>
            </a:r>
            <a:br>
              <a:rPr sz="5400"/>
            </a:b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                  (1860-1904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08440" cy="53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П. Чехов родился в 1860 году в городе Таганроге, в семье торгов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76 году отец Чехова разорился и переехал с семьей в Москву, а Антон остался. Он учился в гимназии. Писательский талант у Чехова открылся в гимн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 лет Чехов поступил на медицинский факультет Московского университета, после его окончания получил звание вр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туденческие годы Чехов начинает писать маленькие рассказы. Эти произведения приносят ему популяр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90-е годы произведения Чехова были известны не только в России, но и в других европейских стра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тема рассказов, повестей, пьес Чехова, - это жизнь обыкновенны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 театрах ставятся пьес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А.П. Чехо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Чайка» (1895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Дядя Ваня» (1896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Три сестры» (1901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Вишневый сад» (1903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ти произведения оказали огромное влияние на развитие мировой театральной драматургии ХХ ве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есной 1904 года здоровье Чехова ухудшилось. По совету врачей он отправляется на лечение в немецкий курортный город Баденвейлер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м он скончал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А.П. Чехов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–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семирно известный писател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настоящее время имя А.П. Чехова является одним из самых популярных в мировой литературе, а пьесы великого драматурга идут на сценах всех континен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6:35Z</dcterms:created>
  <dc:creator>Русинов Р.</dc:creator>
  <dc:description/>
  <dc:language>en-US</dc:language>
  <cp:lastModifiedBy>Русинов Р.</cp:lastModifiedBy>
  <dcterms:modified xsi:type="dcterms:W3CDTF">2012-12-04T16:10:34Z</dcterms:modified>
  <cp:revision>3</cp:revision>
  <dc:subject/>
  <dc:title>АНТОН ПАВЛОВИЧ ЧЕХОВ (1860-1904)</dc:title>
</cp:coreProperties>
</file>